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AF1F0-B75F-4B01-8601-1EFC0156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C8D7F-B794-4474-969B-E4021586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EEF88-63CC-4DBE-A7AA-E34C119D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79DD3-C391-4857-BEDC-7091D60B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7075-9EB5-4959-A4C6-06B0AE33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99C5-498A-4615-9860-E0608864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2908-207F-44EE-B9C9-153575B5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1B4E-AD54-4852-8007-4D1F002D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8B1D-FAC6-48B1-8640-52CE84EA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90D6-DD3F-4DA9-AB0A-15EBDEC5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58A8-EE41-4174-9739-7CA6B842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F1048-A030-42AF-AF54-0BECACE7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55B1-45FD-4958-8B6C-07611E2D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75CF-9867-4A21-99BF-EC48E668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D2D6-6FC1-4E21-A111-DDAD08E0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3FB0-7903-4E1A-8115-41D99B00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7FE4-FEA5-4CEE-A074-7A6A1B2B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1337E-C4F6-4158-88C8-776E4277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98D19-2A39-4FBC-9504-F627659B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85290-AD74-4947-8FB3-B0C2F61C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EB0AA-C0EC-40B6-991C-958BF657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17FCA-8B40-4CAA-BDAB-48E3F01F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8E1F2-1580-467F-AF9F-78674E76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972B5-8F2E-4418-8F3E-3EE87CC0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DBAF-57C7-4E43-88F1-3BF393F750F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1D5B-1502-4703-A453-89746CAB70B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7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8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Почтено чувство е да негодуваш, да бъдеш съдия над всички строг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с реч, от яд пламтяща, да бичуваш недъзи, слабости, разврат, порок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о има нещо по-добро, о, брат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твоя гняв и благороден бя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 то е: да обичаш! - Подвиг свят 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много труден, много славен днес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14084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Да любиш - е да знаеш да прощаваш, да имаш в себе ой велика мощ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любиш - то е храбро да съзнаваш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е си кат* всички, може би по-лош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14084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То значи ти да вярваш в тържеството на Божий лъч у бедний человек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 е дума - о дело да ратуваш е злото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 язви вместо бич да имаш лек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75032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5. Да съди всякой знае злият тоже! Омразата тя пълни днес све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ук трябува любов - тя само може оветия кръст да вземе на Хрис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79280" y="6165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Иван Вазов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33:47Z</dcterms:modified>
  <cp:revision>158</cp:revision>
  <dc:subject/>
  <dc:title>Slide 1</dc:title>
</cp:coreProperties>
</file>